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8ECA4-48F1-47CE-A662-11E7031B6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3C5D3-9FEB-4EE4-A60C-A6F521233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C8A34-0754-4155-A049-B98339019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9738A-0082-4DAE-B094-6FC22D4FC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C0902-D415-45D3-8607-6A5FFC9672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52144-7AF7-4893-8853-274B2372A7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C786B-6F99-443B-A11D-16F5749685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F4F7B-2250-4124-BF56-20B1E3D4E6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A85B7-CA6C-4640-8AE7-958EB133D4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1B2AB-5F51-41FA-AF9E-D0AE68656C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A77AD-399B-46CE-87CF-EDB5D25006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BE17A-520A-4DC4-BB33-677EA407F1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6A8DE-6FCE-43E8-8AC9-214CADEBA4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A62BB-1316-4BBF-909E-DCE0A79E35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DE575-AC01-45F7-BBD2-5E1C975660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E6437-34B8-4576-8D74-CEF6E0F952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4F6CA-9765-4A85-A005-9958A69874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97253-538C-4EBB-85B9-8FA9BBBE0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698F8-9A2C-4AE8-A176-B7E77A682D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9F8B2-4A07-4C8D-9624-0A2FC5D41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C59B9-4F66-4D48-AAA3-87C270FE3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4A69D-881E-4698-93F8-47B893219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26825-5B0A-4DB3-B912-FCBB5A107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5FF2F-27BC-445E-8841-C9F01D4DC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7E16F1C-AD95-4EDE-9E99-635AC09CF475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548B204-198D-4097-88FE-0BEA41153C00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9D775DB-BB76-42A0-AEE9-0916E50A84B5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E04182D-B986-4234-9528-AA9773996AF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soton.ac.uk/~cpd/anovas/datasets/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rField" TargetMode="Externa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7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is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comparing two group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= group difference (=sid) /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at is the smallest interesting difference in your expert opinion? (si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s.d. from previous work (can’t contro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.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ar 1.0              &gt;3.0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cancer sibling study: 222 possible to sample but 80% response rate and gender matched siblings wil reduce sample past 120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41400" y="1600200"/>
            <a:ext cx="726120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rFiel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Administrator</cp:lastModifiedBy>
  <dcterms:modified xsi:type="dcterms:W3CDTF">2009-07-15T15:56:23Z</dcterms:modified>
  <cp:revision>190</cp:revision>
  <dc:subject/>
  <dc:title>8: SAMPLE SIZE DETERMINATION</dc:title>
</cp:coreProperties>
</file>